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759-8C69-4C4B-87AF-ED25F75C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581-FB4E-4D0E-942A-4D06DF8B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653-F200-42CD-B369-088E7FAD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BC2-5189-4049-8E6E-E062900A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F9B-D727-4E00-8F8C-53A4D98B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667-0C3E-4DA1-99FD-25D2BC9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A4A-7432-4DB1-80A4-5D5CB6B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240-2862-4747-B0E3-844DF5B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64A-E332-4942-86A3-445F0B99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E32-43AC-4424-AFA7-3F208E2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DAD-47C6-475D-969E-ECE4C2A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5C9-F3E0-429C-ACAB-10330253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B965-478C-4163-BF73-128D14F295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uri.pereira@ana.gov.br);" TargetMode="External"/><Relationship Id="rId2" Type="http://schemas.openxmlformats.org/officeDocument/2006/relationships/hyperlink" Target="mailto:nelson.freitas@ana.gov.br);" TargetMode="External"/><Relationship Id="rId3" Type="http://schemas.openxmlformats.org/officeDocument/2006/relationships/hyperlink" Target="mailto:viviani.alves@ana.gov.br);" TargetMode="External"/><Relationship Id="rId4" Type="http://schemas.openxmlformats.org/officeDocument/2006/relationships/hyperlink" Target="mailto:wilde@ana.gov.br);" TargetMode="External"/><Relationship Id="rId5" Type="http://schemas.openxmlformats.org/officeDocument/2006/relationships/hyperlink" Target="mailto:martha.sugai@copel.com);" TargetMode="External"/><Relationship Id="rId6" Type="http://schemas.openxmlformats.org/officeDocument/2006/relationships/hyperlink" Target="mailto:rmancini@sp.gov.br);" TargetMode="External"/><Relationship Id="rId7" Type="http://schemas.openxmlformats.org/officeDocument/2006/relationships/hyperlink" Target="mailto:grh@iema.es.gov.br);" TargetMode="External"/><Relationship Id="rId8" Type="http://schemas.openxmlformats.org/officeDocument/2006/relationships/hyperlink" Target="mailto:breno.lasmar@meioambiente.mg.gov.br);" TargetMode="External"/><Relationship Id="rId9" Type="http://schemas.openxmlformats.org/officeDocument/2006/relationships/hyperlink" Target="mailto:marilia.melo@meioambiente.mg.gov.br);" TargetMode="External"/><Relationship Id="rId10" Type="http://schemas.openxmlformats.org/officeDocument/2006/relationships/hyperlink" Target="mailto:fatimacasarim@inea.rj.gov.br);" TargetMode="External"/><Relationship Id="rId11" Type="http://schemas.openxmlformats.org/officeDocument/2006/relationships/hyperlink" Target="mailto:formiga.inea@gmail.com);" TargetMode="External"/><Relationship Id="rId12" Type="http://schemas.openxmlformats.org/officeDocument/2006/relationships/hyperlink" Target="mailto:george.silva@inga.ba.gov.br);" TargetMode="External"/><Relationship Id="rId13" Type="http://schemas.openxmlformats.org/officeDocument/2006/relationships/hyperlink" Target="mailto:carmo_neves@uol.com.br);" TargetMode="External"/><Relationship Id="rId14" Type="http://schemas.openxmlformats.org/officeDocument/2006/relationships/hyperlink" Target="mailto:donipm@ig.com.br);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presentação do Relatório do Grupo de Trabalho “Unidades de Gestão de Recursos Hídricos” – 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GT “UGR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união da CT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ília, 14 de outubro de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OES PARA A DEFINIÇAO DO MAPA DE UNIDADES DE PLANEJAMENTO E GEST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dentificar unidades de planejamento e gestão de recursos hídricos adotadas nos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valiar a utilização de ferramentas de geoprocessamento, modelos matemáticos e estatísticos de análise (por exemplo, multicritério e análise de clusters) e métodos de tomada de decisão, dentre outros, para definir metodologia de agrupamento de unidad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laborar mapa estratégico de unidades de planejamento e gestã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sultar e negociar mapa estratégico com Unidades da Fed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nternalizar as diretrizes do mapa estratégico nos programas e nos subprogramas do PNR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alizar avaliações periódicas das metas do mapa estratég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96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ª Reuni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16 de junho de 2009 – antes da reunião foi distribuída 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“1ª Minuta do Relatório de apoio para os trabalhos do GT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tos que antecederam criação do G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positivos legais do regimento que tratam dos Grupos de Trabalh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ões identificadas com relação 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serem analisadas pelo G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a reunião as questões foram agrupadas em 6 temas e respostas construídas com base nos nas discussões que ocorreram na reunião e nas informações prestadas pela ANA, conforme apresentado no item 2 do relatório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2ª Reuni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em 04/08/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terações introduzidas na re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licação da metod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lecionadas: Bacia do rio Grande; Paranaíba e Mundaú/Parnaí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pas na parede mostrando a aplicação às demais 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 territorial: Nota técnica da ANA (aplicação da metodologia e dos critérios utilizados, como também dos resultados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-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NT 072/2009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scussão da proposta de re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o conteúdo do pacto, se este deveria ou não apresentar a alocação quali-quantitativa dos recursos hídr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ipologia de comitê: único ou de integr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legação de competências do CNRH para os CER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legação de competências do   CNRH para os CERH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no que se refere às propostas encaminhadas a esses pelos comitês de bacia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muito difícil no momento definir uma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regra geral pelas particularidades de cada cas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, principalmente considera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 sistema hídric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corpo hídrico que passa por um Estado e depois por outro ou corpo hídrico que faz fronteira entre os Estados envolvido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stágio de implementação dos Sistema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evisão ou não destas competências nas respectivas legislações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2ª Reuni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m 04/08/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ovos objetiv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resoluçã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definir uma base territoria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om as áreas de atuação de comitês de bacias de rios de domínio da Uni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elec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ondições para a criação de comitês de bacia, complementar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à Resolução CNRH nº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ocesso de acompanhamento do funcionamento dos comitês de bac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uja criação foi aprovada pelo CNR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3ª Reuni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m 03/03/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são da proposta levando em conta as novas sugestões encaminhadas pela CRH/SP e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ão sobre o anexo da resolução, que apresenta o Mapa com as UG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gerido que a criação de UGRH n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Região Hidrográfica Amazônic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remetida à revisão do Plano, em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delimitação d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Unidade do Tocantin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evou em conta o disposto na Resolução nº 101, que aprovou o Plano Estratégico do Tocantins-Araguaia e estabelece que devem ser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empreendidos esforço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visando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com brevidade possível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promover as condições necessárias à criação e funcionamento do Comitê de Bac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5 - ENCAMINHAMENT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T sugere 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aminhament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ov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obre UGRH, conforme minuta apresentada n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EXO III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à CTP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ta de que o tema relativo à possibilidade de delegação de atribuições do CNRH aos CE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conforme previsto na proposta original da Resolução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ja apreciado pelas instâncias competentes do CN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isando avaliar sua pertinência,  adequação, temporalidade e, caso conveniente, os procedimentos legais para sua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NEX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30360"/>
            <a:ext cx="7772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 - Lista de participantes de uma ou mais Reuniões do 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 - Memórias das Reuniões do G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I – Proposta de Res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Muito obrigada aos colegas do G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NA: Mauri César B. Pereir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"/>
              </a:rPr>
              <a:t>mauri.pereira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Nelson Neto de Freita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2"/>
              </a:rPr>
              <a:t>nelson.freita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Viviani Pineli Alve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3"/>
              </a:rPr>
              <a:t>viviani.alve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Wilde Cardoso Gontijo Jr.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4"/>
              </a:rPr>
              <a:t>wilde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PR: Martha R. Von Borstel Sugai 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5"/>
              </a:rPr>
              <a:t>martha.sugai@cope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SP: Rosa Mancini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6"/>
              </a:rPr>
              <a:t>rmancini@s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MA-ES: Robson Monteiro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7"/>
              </a:rPr>
              <a:t>grh@iema.es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Breno Esteves Lasmar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8"/>
              </a:rPr>
              <a:t>breno.lasmar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Marilia Carvalho de Melo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9"/>
              </a:rPr>
              <a:t>marilia.melo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Fatima Casari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0"/>
              </a:rPr>
              <a:t>fatimacasarim@inea.r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Rosa Maria Formiga Johnsso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1"/>
              </a:rPr>
              <a:t>formiga.inea@g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GA-BA: José George dos Santos Silv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2"/>
              </a:rPr>
              <a:t>george.silva@inga.b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ituto de Proteção Ambiental do Amazonas: Maria do Carmo N.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3"/>
              </a:rPr>
              <a:t>carmo_neves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Integração Nacional: Donivaldo Pedro Martin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4"/>
              </a:rPr>
              <a:t>donipm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Justiça: Carlos Hugo Suarez Sampaio (hugo.suarez@m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 – RJ: Neide Cléa de A. Ribeiro (nedecar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: Marcelo Barbosa Sampaio (Marcelo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QM: Wilson Filho (azefilho@hot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MA-MT: Leonice de Souza Lotufo (leolotufo@sema.mt.gov.br, leonicemt@yahoo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 – Pernambuco: Marisa S. L. Figueiroa (marisa.figueiroa@srh.pe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/SEMARH-AL: José Roberto Valois Lobo (srh@semarh.al.gov.br, loboroberto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 (consultor): Gilberto Valente Canali (gvcanali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co Neves (marco.neves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ley Caetano de Mendonça (maley.mendonça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Roberto Alves Monteiro (roberto.monteiro@mma.gov.b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tha Regina von Borstel Sugai (coordenadora do GT, representando o Conselho de Recursos Hídricos do Estado do Paran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ilia Carvalho de M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relatora, IG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ESTRUTURA DO RELATÓRI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 ANALISADAS E SUAS RESPOSTAS SEGUNDO 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SE LEGAL RELEVANTE AO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CRIÇAO DOS TRABALHOS PARA  ELABORAÇAO DA PROPOSTA DE RESOLUÇAO D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CAMINH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ção do GT “UGRH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”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XXI Reunião Ordinária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alizada nos dias 25 e 26/05/2009, no âmbito d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TPNRH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azo de conclusão dos seus trabalh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1ª  reunião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ser realizada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2º semestre de 2009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10000"/>
              </a:lnSpc>
              <a:spcBef>
                <a:spcPts val="788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que será no dia 28/10: novo prazo: até o final do ano (Ofício 01/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lisar e apresentar uma nova proposta de resolução que “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ria Unidades de Gestão de Recursos Hídricos de Rios de Domínio da União - UGRH e estabelece diretrizes e procedimentos complementares para a criação de comitês de bacia hidrográfic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Tramitação no CNRH até a criação do GT (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Verdana"/>
              </a:rPr>
              <a:t>ver Relatório de apoio aos trabalhos do GT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)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55ª reunião CTP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16 e 17/02/2009, a proposta foi analisada e aprovada, conforme Nota Técnica 01/2009 da CTPNR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107ª reunião da CT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02 e 03/03/2009, a proposta foi analisada e aprovado o encaminhamento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24ª Reunião Extraordinária do C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26/03/2009, decidiu-se pela ampliação do debate antes da delib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ficin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referente à proposta de resolução que “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  UGRHs e estabelece diretrizes e procedimentos complementares para a criação de comitês de bacia hidrográfic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”, 14/05/20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Reuniões do GT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1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6/06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em Brasí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foram debatidas as questões levantadas durante a tramitação que antecedeu a criação do GT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, concluindo-se que havia a 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necessidade de uma revisão porque a mesma não estava atendendo os objetivo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a que se propunha, em particular no que se referia a comitê de bacia e não de 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2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04/08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n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arilia Carvalho de Melo (IGAM) – relatora do G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3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03/09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em Brasí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2 - QUESTÕES ANALISADAS E RESPOSTAS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s da Resoluç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lassificação das 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itê de integ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compa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3 - BASE LEGAL RELEVANTE A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Lei nº 9.43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08/01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bacia hidrográfica é a unidade territoria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1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área de atuação dos comitês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3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União articular-se com os Estados tendo em vista o gerenciamento dos recursos hídricos de interesse comum 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(art. 4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  <a:ea typeface="Times New Roman"/>
              </a:rPr>
              <a:t>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5º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nº 5 do CNRH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de 10/04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área de atuação de cada Comitê será estabelecida no decreto de sua instituição, com base no disposto na Lei nº 9.433, de 1997, nesta Resolução e na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Divisão Hidrográfica Nacional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, a ser incluída no Plano Nacional de Recursos hídricos, onde deve constar a caracterização das bacias hidrográficas brasileiras, seus níveis e vinculaçõ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visão Hidrográfica Nacional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CNRH nº 32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e 15/10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program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.4 Estudos para a Definição de Unidades Territoriais para a Instalação de Modelos Institucionais e Respectivos Instrumentos de Gestão de Recursos Hídric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”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ubprograma I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 geral “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definir e caracterizar unidades territoriais de planejamento e gestã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orientar a implantação do SINGREH e a implementação dos instrumentos da Política Nacional de Recursos Hídricos”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s específic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selecionar as principais variáveis e aspectos – hidrológicos, ambientais, socioeconômicos e político-institucionais – a serem considerados nos recortes que definem as unidades de planejamento, de gestão e de intervenção em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elaborar proposta metodológica para definição de mapa estratégico para a implantação do SINGREH e dos instrumentos de gestão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aborar estudos sobre modelos institucionais de gerenciamento, para dar suporte à implementação de instrumentos de gestão, segundo disposto no Programa III, em especial para atendimento de demandas específicas do SINGREH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ÕES PARA A DEFINIÇAO E CARACTERIZAÇAO D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efinir premissas e conceito de unidades territoriais de planejamento e gestão de recursos hídric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elecionar critérios hidrológicos, ambientais, socioeconômicos, políticos e instituc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valiar a aplicabilidade de outras categorias de critéri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montar base de dados com informações sobre os critérios ado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ugai</cp:lastModifiedBy>
  <dcterms:modified xsi:type="dcterms:W3CDTF">2009-10-14T11:31:22Z</dcterms:modified>
  <cp:revision>42</cp:revision>
  <dc:subject/>
  <dc:title>PowerPoint Presentation</dc:title>
</cp:coreProperties>
</file>